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A12-2B7A-426F-8F5E-D100B53E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927-5876-465D-9FBB-80DBF4C4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B22-27DB-4181-8E54-0316A66F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476-1687-43D5-9A11-0523BBDE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194-51BC-4357-A7A0-3B159E89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52A-2832-44D5-8B02-27DBBFB7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C08-248A-4604-BBD9-71578139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405-48A9-466B-AC0B-FE773FE6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448-C7A5-457E-84E2-46B498B6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09E-04D6-42BE-8980-33A8CB7B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3571-0D89-4D94-8130-73CBFF53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5D6-909D-4F6C-85CE-660519B4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FAB6-C057-4D5A-8CDD-3ABAD5E5CD5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89960" cy="86364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27160" y="1989000"/>
            <a:ext cx="86896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ستنفرنا الإمام للجه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هجم الكفارعلى بل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لتقى الصفان وتقابل الزحف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27160" y="394956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في الجهاد في سبيل الله خير كثير  ل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140360" y="981000"/>
            <a:ext cx="4546440" cy="52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1055520" y="3238560"/>
            <a:ext cx="785988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1600" y="1557360"/>
            <a:ext cx="8691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علاء كل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صر المظلومين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دّ العدوان وحفظ الإسلا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49"/>
          <a:stretch/>
        </p:blipFill>
        <p:spPr>
          <a:xfrm>
            <a:off x="250920" y="907920"/>
            <a:ext cx="8642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613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23920" y="981000"/>
            <a:ext cx="8696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738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2116080"/>
            <a:ext cx="8642160" cy="44816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50920" y="41083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عسر واليس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50920" y="45752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سفراً قريب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013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جهاد والقت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5468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عتذر عن الخرو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8510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2400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تحي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جهاد مرتبط بإذن :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م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خلف عن الجهاد الواجب والاعتذار بأعذار كاذبة علامة من علام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278136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تب الله رسوله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إذنه لمن استأذنه في القعود قبل أن يتبين الصادق منهم في عذره من الكاذب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بشر لا يعلم الغيب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إعلام الله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365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مبادرة إلى الأعمال الصالح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94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عظم الأعمال الصالح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51664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ط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3262320" y="2708280"/>
            <a:ext cx="2822400" cy="54144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08000" y="602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يرة والترد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8440" y="1125360"/>
            <a:ext cx="8545680" cy="7192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صفات المؤمنين المبادرة إلى الأعمال الصالحة والبعد عن التردد والح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0T19:38:18Z</dcterms:modified>
  <cp:revision>1811</cp:revision>
  <dc:subject/>
  <dc:title>عرض تقديمي في PowerPoint</dc:title>
</cp:coreProperties>
</file>